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9.jpeg" ContentType="image/jpeg"/>
  <Override PartName="/ppt/media/image6.wmf" ContentType="image/x-wmf"/>
  <Override PartName="/ppt/media/image29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6DC2-0D6E-4CB5-91E4-94668584A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7FD-647E-44AB-B46F-3F219BCE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AF5-D235-40B6-8225-2D6EC1D8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453-12B3-4CCA-BBEF-C0FA70F8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6B4-B4FB-4508-BB10-92A6C22A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5FD5-D5F8-4170-A644-608D0DFB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6199-0C4C-466F-94E3-88F6FC04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2E59-1794-491D-B516-4BC823E4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05BE-816D-4B99-8E05-ECC3CB91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3D5E-E331-44D8-8287-7C99E777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6821-6568-4F74-A460-9F6C0578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003A-2EBE-4399-96DB-4F2FAD2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ACF-1097-4574-AC62-0A5C497B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2715-ECD5-470C-A50D-AE74DBB9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20BB-0D0A-461B-8E2D-35008E77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1C77-E7F6-46E2-83AF-D024A04A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7FA7-60E2-477A-827A-B7EBA4D9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39F8-9592-4AFD-A8E4-0C8F205C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371-3A86-4D9E-A65A-9F442B5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7DD-4075-4B73-BF63-2EB405C2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651-9F88-4336-B4D7-22C3C835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E1B-4E84-4269-97C9-5395DF0D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D5B-4541-40FB-81CC-149BD8B5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B0B-FDBE-4E40-AFB7-BBC6ADFF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7CB-04C8-4F4F-8073-DEF3A50B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6D6B-B837-4B9A-BBA6-182AF8758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3AA6-83EC-4E4A-BE68-ED7A36E37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nozca sus Dere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4067-B309-42AB-A5DE-16FE518D424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Keep It Safe title slide with FDIC Money Smart logo and module logo of a s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</a:rPr>
              <a:t>Conoz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52280" y="19051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s             Derech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proteger cuentas de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987480"/>
            <a:ext cx="701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FDIC asegura los fondos en cuentas de depósito, incluidas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corr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de ahor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entas de depósito del mercado monetario (MM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32f5a"/>
                </a:solidFill>
                <a:latin typeface="Helvetica Neue"/>
              </a:rPr>
              <a:t>Certificados de Depósito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erson filling out a check"/>
          <p:cNvPicPr/>
          <p:nvPr/>
        </p:nvPicPr>
        <p:blipFill>
          <a:blip r:embed="rId1"/>
          <a:stretch/>
        </p:blipFill>
        <p:spPr>
          <a:xfrm>
            <a:off x="6594480" y="190512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bertura del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cobertura está basada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tegoría de titular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individu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mancomu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822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iertas cuenta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Monto mínimo estándar del seguro de depósitos (SMDIA), en la actualidad $250,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Older couple reviewing information on a laptop"/>
          <p:cNvPicPr/>
          <p:nvPr/>
        </p:nvPicPr>
        <p:blipFill>
          <a:blip r:embed="rId1"/>
          <a:stretch/>
        </p:blipFill>
        <p:spPr>
          <a:xfrm>
            <a:off x="6781680" y="685800"/>
            <a:ext cx="16765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adicional sobre la cobertura de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: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fdic.gov/deposit/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: 1-877-ASK-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 representante del ban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ce la Herramienta Electrónica de Cálculo de Seguro de Depósitos: </a:t>
            </a:r>
            <a:r>
              <a:rPr b="1" lang="es-E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myfdicinsurance.gov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individ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6477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de una persona y en la que sólo el nombre de esa persona aparece como titula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e asegura hasta el SMD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Man using ATM"/>
          <p:cNvPicPr/>
          <p:nvPr/>
        </p:nvPicPr>
        <p:blipFill>
          <a:blip r:embed="rId1"/>
          <a:stretch/>
        </p:blipFill>
        <p:spPr>
          <a:xfrm>
            <a:off x="7062840" y="1603440"/>
            <a:ext cx="177624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mancomun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iedad de dos o más person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nombres de los cotitulares aparecen como titul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e asegura hasta el SMDIA para cada cotitula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A couple reviews financial information with a financial professional "/>
          <p:cNvPicPr/>
          <p:nvPr/>
        </p:nvPicPr>
        <p:blipFill>
          <a:blip r:embed="rId1"/>
          <a:stretch/>
        </p:blipFill>
        <p:spPr>
          <a:xfrm>
            <a:off x="3200400" y="3809880"/>
            <a:ext cx="2587680" cy="172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iertas cuentas de jubilac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ólo las siguientes están aseguradas bajo esta categoría de titularida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l plan de compensación diferida Sección 4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auto dirigidas del plan de contribución defin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l plan Keogh auto dirigidas (o plan HR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uenta de fideicomiso revocab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87480"/>
            <a:ext cx="66294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64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7760" indent="-6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de depósito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stablece como una cuenta pagadera al fallecer (POD) o en fideicomiso para (IT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stablece a nombre de un fideicomiso revocable formal (cuenta de fideicomiso activo o famili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an pushing his daughter in a swing"/>
          <p:cNvPicPr/>
          <p:nvPr/>
        </p:nvPicPr>
        <p:blipFill>
          <a:blip r:embed="rId1"/>
          <a:stretch/>
        </p:blipFill>
        <p:spPr>
          <a:xfrm>
            <a:off x="7086600" y="190512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bertura de seguro para cuentas de fideicomiso revocab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35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bertur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otorga al titular del fideicomi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basa en el número de beneficiarios y los intereses designados a cada uno, hasta el límite del segu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basa en todos los depósitos del fideicomiso establecidos por el mismo titular en el mismo 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la cuen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Freda Roam tiene $1,400 en una cuenta de ahorro en la entidad de ahorro Sawmill Savings &amp;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omer Stead contribuye $50 al mes a una cuenta IRA a través de su empl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arallelogram 3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Notched Right Arrow 4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ierta cuenta de jubilación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8195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44792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4724280" y="990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mancomu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la cuen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rey y Josie depositaron $500 en una cuenta de ahorro juntos para empezar un fondo universitario para su bebé. La abuela de Marcus abrió una cuenta de ahorro con $2,500 de la cual Marcus recibirá los fondos si la abuela fall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arallelogram 5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Notched Right Arrow 6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ierta cuenta de jubilación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28195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deicomiso revo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144792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472428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mancomu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ductos de inversión no aptos para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292400"/>
            <a:ext cx="8153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FDIC no asegura los productos de inversión no aptos para depós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obert tiene un CD con $10,000 e invirtió $10,000 en un fondo mutuo en un banco que ha cer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s $10,000 (+ interés) para el CD están cubiertos por la FDIC, pero no los $10,000 que invirtió en el fondo mut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visos de privac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87480"/>
            <a:ext cx="8458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exigen por ley para explicar cómo la compañía trata y comparte su información financiera person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 de avis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privacidad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privacidad 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en las pol?íticas de priv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9" descr="Notice and envelop"/>
          <p:cNvPicPr/>
          <p:nvPr/>
        </p:nvPicPr>
        <p:blipFill>
          <a:blip r:embed="rId1"/>
          <a:stretch/>
        </p:blipFill>
        <p:spPr>
          <a:xfrm>
            <a:off x="6095880" y="3124080"/>
            <a:ext cx="1844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derecho de optar por no compartir parte de su información financiera person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optar por no compartir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ell phone"/>
          <p:cNvPicPr/>
          <p:nvPr/>
        </p:nvPicPr>
        <p:blipFill>
          <a:blip r:embed="rId1"/>
          <a:stretch/>
        </p:blipFill>
        <p:spPr>
          <a:xfrm>
            <a:off x="7086600" y="281952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el robo de identida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193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ladrones le roban su información personal y se hacen pasar por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no lo descubre pronto, podría enfrentarse a meses o años tratando de reparar el daño a su reputación y a su puntaje crediticio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172200" y="1676520"/>
            <a:ext cx="2743200" cy="3504960"/>
            <a:chOff x="6172200" y="1676520"/>
            <a:chExt cx="2743200" cy="3504960"/>
          </a:xfrm>
        </p:grpSpPr>
        <p:sp>
          <p:nvSpPr>
            <p:cNvPr id="209" name="TextBox 4"/>
            <p:cNvSpPr/>
            <p:nvPr/>
          </p:nvSpPr>
          <p:spPr>
            <a:xfrm>
              <a:off x="6172200" y="426708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2060"/>
                  </a:solidFill>
                  <a:latin typeface="Calibri"/>
                </a:rPr>
                <a:t>El robo de identidad es un grave problem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6172200" y="1676520"/>
              <a:ext cx="2590920" cy="3504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10" descr="Theif holding cash and credit card"/>
          <p:cNvPicPr/>
          <p:nvPr/>
        </p:nvPicPr>
        <p:blipFill>
          <a:blip r:embed="rId1"/>
          <a:stretch/>
        </p:blipFill>
        <p:spPr>
          <a:xfrm>
            <a:off x="6607080" y="1841400"/>
            <a:ext cx="175284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Formas comunes de robar la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8856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rreos electrónicos no solicitados que parecen provenir de una fuente leg?í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ar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itios Web falsos que buscan información personal o privada aparentando ser leg?íti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520" indent="-33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kim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dispositivo especial de almacenaje usado para obtener números de tarjetas de crédito/déb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sobre 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819520" y="1874520"/>
            <a:ext cx="5943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isión Federal de Comercio (FTC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Computer"/>
          <p:cNvPicPr/>
          <p:nvPr/>
        </p:nvPicPr>
        <p:blipFill>
          <a:blip r:embed="rId1"/>
          <a:stretch/>
        </p:blipFill>
        <p:spPr>
          <a:xfrm>
            <a:off x="506520" y="1554120"/>
            <a:ext cx="2286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Auto evaluación de robo de identidad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cada cu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cule su punt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85572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s-ES" sz="27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ftc.gov/idthef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reclamación con la FT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Police badge"/>
          <p:cNvPicPr/>
          <p:nvPr/>
        </p:nvPicPr>
        <p:blipFill>
          <a:blip r:embed="rId1"/>
          <a:stretch/>
        </p:blipFill>
        <p:spPr>
          <a:xfrm>
            <a:off x="7467480" y="609480"/>
            <a:ext cx="1279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010280" y="457200"/>
            <a:ext cx="2013120" cy="1447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erta de frau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erta de fraude inicial - 90 dí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erta de fraude extendida - 7 a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osibles prestamistas deben ponerse en contacto con usted para autorizar cualquier cuenta nueva en su n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loqueo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be autorizar cualquier acceso a su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Si pierde o le roban la billetera o el bolso: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987480"/>
            <a:ext cx="85345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ncele inmediatamente sus tarjetas de crédit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nga una alerta de fraude en su informe creditici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l suceso a su ban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un?íquese con las compañías principales de verificación de che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btenga una nueva tarjeta de cajero automático con un número y contraseña nuev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Wallet with cash and cards"/>
          <p:cNvPicPr/>
          <p:nvPr/>
        </p:nvPicPr>
        <p:blipFill>
          <a:blip r:embed="rId1"/>
          <a:stretch/>
        </p:blipFill>
        <p:spPr>
          <a:xfrm>
            <a:off x="7791480" y="838080"/>
            <a:ext cx="1193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el seguro federal de depósito protege los depósi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evitar el abuso financiero de may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¿Qué es el abuso financiero de mayores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76360" y="141768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1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zar el dinero o los activos de una persona mayor en contra de sus deseos, necesidades o intereses, y del cual se beneficia personalmente la persona que realiza el abu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1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Elderly couple looking at their finances"/>
          <p:cNvPicPr/>
          <p:nvPr/>
        </p:nvPicPr>
        <p:blipFill>
          <a:blip r:embed="rId1"/>
          <a:stretch/>
        </p:blipFill>
        <p:spPr>
          <a:xfrm>
            <a:off x="533520" y="1600200"/>
            <a:ext cx="25812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Ejemplos de abuso financiero de mayore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Quitar dinero o propie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alsificar una firma o utilizar tácticas engañosas para hacer que personas mayores firmen documentos leg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zar propiedad o bienes sin permi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meter asistencia a cambio de dinero o propiedad y no cumplir la prome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tilizar el tele marketing para engañar a personas mayor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sibles autores de abus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iares que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problemas de abuso de sustancias, apuestas o de otro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yan a hered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man que se gaste la 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una mala relación con la persona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sentimientos negativos hacia otros benefici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 marke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ién está en peligr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rsonas mayores que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n aislados o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ayan sufrido la pérdida de un cónyuge, animal doméstico o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una enfermedad (física o 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No estén familiarizados con asunt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engan familiares en desempleo o con problemas de abuso de sust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Older gentleman "/>
          <p:cNvPicPr/>
          <p:nvPr/>
        </p:nvPicPr>
        <p:blipFill>
          <a:blip r:embed="rId1"/>
          <a:stretch/>
        </p:blipFill>
        <p:spPr>
          <a:xfrm>
            <a:off x="6705720" y="457200"/>
            <a:ext cx="19666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Cómo puede hacer que las personas mayores no estén tan expuesta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bserve su estilo de vida y protéjalos donde vea que es necesari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Haga preguntas para determinar su vulnerabi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me medidas para protege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Younger person holding the hand of an elderly person"/>
          <p:cNvPicPr/>
          <p:nvPr/>
        </p:nvPicPr>
        <p:blipFill>
          <a:blip r:embed="rId1"/>
          <a:stretch/>
        </p:blipFill>
        <p:spPr>
          <a:xfrm>
            <a:off x="3276720" y="4267080"/>
            <a:ext cx="239868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¿Qué puedo hacer para tener cuidado al contratar a un asistente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596960"/>
            <a:ext cx="8458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1920" indent="-330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uebe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330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a agencia de contratación tiene buena reput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330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as referencias del asistente han sido comprob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Los cheques, tarjetas de crédito y demás de la persona mayor están seguro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1920" indent="-3304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ne un acuerdo por escrito de los servicios prestados y un registro de los empleados, horarios, pagos de sueldo y gast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Información acerca del abuso financiero de may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0960" indent="-299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0960" indent="-299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un?íquese con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epartamento de Servicios de Protección de Adultos de su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epartamento de Salud y Servicios Humanos de EE.UU. y su Localizador de Asistencia para May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eldercare.gov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00-677-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Seguro: ¿Por qué es necesar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-61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120" indent="-6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egur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tección para usted (y su familia) de pérdidas de dinero si ocurre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ita tener que usar los fondos que ha reservado para otros objetivos financieros o emer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ita que tenga que acumular más deudas y tener qu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pos de segur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924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vi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vivienda/alqui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au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de discapac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a tercer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terminar sus necesidad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bertura depende de ciertas circunstancia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eguro podría ser obligatorio en algunas situacion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miembros del servicio militar y sus familia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cómo va a tratar la compañía los temas relacionados al servicio militar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los diferentes tipos de seguro les ayudarán a manejar riesg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la necesidad de prepararse para una muerte o discapacidad inesper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ir qué pueden hacer para estar preparados para un desast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Por qué estar preparado para eventos inesperad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69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r preparad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da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duce el estrés a la hora de tomar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ahorrar dinero y a evitar una crisis o dificult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Woman looking ahead"/>
          <p:cNvPicPr/>
          <p:nvPr/>
        </p:nvPicPr>
        <p:blipFill>
          <a:blip r:embed="rId1"/>
          <a:stretch/>
        </p:blipFill>
        <p:spPr>
          <a:xfrm>
            <a:off x="7086600" y="1447920"/>
            <a:ext cx="1670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sistencia a largo plaz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finiría la asistencia a largo plaz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ito o verdad: La asistencia a largo plazo es una preocupación para personas mayor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to. La necesidad de recibir asistencia a largo plazo puede llegar a cualquier e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Woman helping an elderly woman with her medication"/>
          <p:cNvPicPr/>
          <p:nvPr/>
        </p:nvPicPr>
        <p:blipFill>
          <a:blip r:embed="rId1"/>
          <a:stretch/>
        </p:blipFill>
        <p:spPr>
          <a:xfrm>
            <a:off x="3276720" y="4191120"/>
            <a:ext cx="2431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sastres potenci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987480"/>
            <a:ext cx="6172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desastres naturales o provocados por el hombre ocurren sin avisar y le pueden ocurrir a cualquiera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asos puede dar para estar preparado financieramente en caso de que ocurra un desastr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Flood water around a sign stating &quot;Danger end of storm drain&quot;"/>
          <p:cNvPicPr/>
          <p:nvPr/>
        </p:nvPicPr>
        <p:blipFill>
          <a:blip r:embed="rId1"/>
          <a:stretch/>
        </p:blipFill>
        <p:spPr>
          <a:xfrm>
            <a:off x="6934320" y="1600200"/>
            <a:ext cx="175572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tener prepara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560" y="987120"/>
            <a:ext cx="88390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 de identific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hequera con cheques en blanco y boletas de depósito para durarle al menos un 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ATM, débito y crédito, y efec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úmero de teléfono de sus institu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úmeros de cu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ve de su caja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5" descr="checkbook, pen, and cash"/>
          <p:cNvPicPr/>
          <p:nvPr/>
        </p:nvPicPr>
        <p:blipFill>
          <a:blip r:embed="rId1"/>
          <a:stretch/>
        </p:blipFill>
        <p:spPr>
          <a:xfrm>
            <a:off x="7053120" y="4495680"/>
            <a:ext cx="1481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guardar y dónde guardarlo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2193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que copias de sus documentos important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ida qué guardar en casa y qué guardar en una caja de segur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los documentos importantes en bolsas de plástico o contenedores/bolsas al vacío e impermeabl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0" descr="Safe"/>
          <p:cNvPicPr/>
          <p:nvPr/>
        </p:nvPicPr>
        <p:blipFill>
          <a:blip r:embed="rId1"/>
          <a:stretch/>
        </p:blipFill>
        <p:spPr>
          <a:xfrm>
            <a:off x="609480" y="5029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Qué debe considera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2360" indent="-34092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críbase en el depósito direc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el pago automático de factur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críbase en los servicios de banca por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2360" indent="-3409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cobertura de segur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8" descr="Beginning of url address &quot;http://www&quot;"/>
          <p:cNvPicPr/>
          <p:nvPr/>
        </p:nvPicPr>
        <p:blipFill>
          <a:blip r:embed="rId1"/>
          <a:stretch/>
        </p:blipFill>
        <p:spPr>
          <a:xfrm>
            <a:off x="6934320" y="609480"/>
            <a:ext cx="190476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¿Cómo de preparado está financieramente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 situación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ponda a la pregu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yes y regulaciones que protegen sus depósi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obo de ident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o financiero de may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ipos de seguro que ayudan a controlar los ries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paración financ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Money being passed from one hand to another's"/>
          <p:cNvPicPr/>
          <p:nvPr/>
        </p:nvPicPr>
        <p:blipFill>
          <a:blip r:embed="rId1"/>
          <a:stretch/>
        </p:blipFill>
        <p:spPr>
          <a:xfrm>
            <a:off x="723888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19160" y="990360"/>
            <a:ext cx="556236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acerca de las leyes y regulaciones de protección al consumido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 de Veracidad en los Ahorr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ige a las instituciones financieras que informen de las condiciones de las cuentas de depósito (corrientes y de aho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ayuda a tomar decisiones infor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Terms and conditions document with eye glasses and a pen"/>
          <p:cNvPicPr/>
          <p:nvPr/>
        </p:nvPicPr>
        <p:blipFill>
          <a:blip r:embed="rId1"/>
          <a:stretch/>
        </p:blipFill>
        <p:spPr>
          <a:xfrm>
            <a:off x="5638680" y="1676520"/>
            <a:ext cx="28958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 de Transferencia Electrónica de Fon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52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85560" indent="-27432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a su responsabilidad con respecto al uso no autorizado de su tarjeta de cajero automático (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 contra errores de transferencia elect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erson placing card in ATM"/>
          <p:cNvPicPr/>
          <p:nvPr/>
        </p:nvPicPr>
        <p:blipFill>
          <a:blip r:embed="rId1"/>
          <a:stretch/>
        </p:blipFill>
        <p:spPr>
          <a:xfrm>
            <a:off x="990720" y="1676520"/>
            <a:ext cx="22860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ras regul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y de Disponibilidad Acelerada de Fond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6080" indent="-255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a el tiempo que un banco puede retener un cheque depositado en su cuenta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gulaciones del seguro de depósito de la 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676080" indent="-255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 los fondos en sus cuentas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3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1: Leyes y regulaciones de las cuentas de depós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é listo para explicar su resp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28:17Z</dcterms:modified>
  <cp:revision>64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